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5650-B566-40A4-B6E9-D04CE4B40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C2F1-6DC6-482A-8D19-6435AC38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5C74-4E71-4F5E-946B-34A021C07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FBC0-44EF-4BCA-92E6-AC5CBA75C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2D22-7614-4582-950E-B5EB53D9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469C-6E4E-40A5-8B90-0DB87829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360F-0229-44ED-AC85-ADFE5104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8F0C-4985-4271-B820-255A8EEC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EA0E-4FD8-4D9C-BD1A-A50074A0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6CAF-F2A2-42CC-A54E-2F20AFEE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64EB-E462-47BF-9AD4-0CFCF7B0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8BF7-DA4C-4DAA-819D-5EFFE7C2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7A0D-A364-4494-A705-2491E0795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n%20título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in%20título-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in%20título-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in%20título-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Sin%20título-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in%20título-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Sin%20título-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in%20título-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Sin%20título-2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6:24:01Z</dcterms:created>
  <dc:creator>Grupo Editorial</dc:creator>
  <dc:description/>
  <dc:language>en-US</dc:language>
  <cp:lastModifiedBy>Grupo Editorial</cp:lastModifiedBy>
  <dcterms:modified xsi:type="dcterms:W3CDTF">2001-09-20T16:28:12Z</dcterms:modified>
  <cp:revision>1</cp:revision>
  <dc:subject/>
  <dc:title>Sin título de diapositiva</dc:title>
</cp:coreProperties>
</file>